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98C0C-0622-4077-AB61-D357E2F36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A5C29-A082-4A20-88FC-56847032B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32401-572B-4107-AC37-AF74382A2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C915C-FDB1-4933-A914-2CD2C029C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B86D5D-5342-4435-8224-0BC8509D24B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024A0-0C33-4F04-9FB7-69FDA9E127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E305A-0B18-4245-A4E8-BED97DF5A1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8BBC5-6ECB-4CCC-9ED5-F555478BE1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D374E-26B5-4F32-9867-31E1502C2D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25AFC-8588-4821-9623-9093E50D47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886552-1E04-45DE-B0F9-2F5666AF61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8ED60-C0F4-456D-BE1F-8203E6528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3384A-DF15-470D-9B0C-FBB6FF34BF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19B02-24A9-4D85-9476-58A31E3EA8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A83F41-31FA-4CA1-AF81-E9D87D61B6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B9AAD9-E146-4F59-8725-1273EE05FC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1767A9-55BA-4E8F-BEC2-D675D6953FE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C5FF1-2E08-48CD-A242-D8A51E289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1637-C1AA-47AB-9E98-0CE67ED84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A7317-5CF7-4C59-956A-F80A8A1C8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EE3B4-8CB9-452B-9EDC-E821507EE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74F37-BCBF-420E-8CD2-ACF4AFF2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AB75C-7CB6-42E5-8BC3-CB4552F46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7B03E-F0F4-4003-99FF-358837B86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D75A-5EE8-4FAA-8878-2F2C55BA6E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0CDD-9C21-4467-BC5B-67332CD088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Users/Casper/Desktop/Ads&#305;z.jpg" TargetMode="External"/><Relationship Id="rId3" Type="http://schemas.openxmlformats.org/officeDocument/2006/relationships/hyperlink" Target="file:///C:/Users/Casper/Desktop/Ads&#305;z.jpg" TargetMode="External"/><Relationship Id="rId4" Type="http://schemas.openxmlformats.org/officeDocument/2006/relationships/hyperlink" Target="file:///C:/Users/Casper/Desktop/Ads&#305;z.jpg" TargetMode="External"/><Relationship Id="rId5" Type="http://schemas.openxmlformats.org/officeDocument/2006/relationships/hyperlink" Target="file:///C:/Users/Casper/Desktop/Ads&#305;z.jpg" TargetMode="External"/><Relationship Id="rId6" Type="http://schemas.openxmlformats.org/officeDocument/2006/relationships/hyperlink" Target="file:///C:/Users/Casper/Desktop/Ads&#305;z.jpg" TargetMode="External"/><Relationship Id="rId7" Type="http://schemas.openxmlformats.org/officeDocument/2006/relationships/hyperlink" Target="file:///C:/Users/Casper/Desktop/Ads&#305;z.jpg" TargetMode="External"/><Relationship Id="rId8" Type="http://schemas.openxmlformats.org/officeDocument/2006/relationships/image" Target="../media/image2.jpe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6858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ffffff"/>
                </a:solidFill>
                <a:latin typeface="Tahoma"/>
              </a:rPr>
              <a:t>T. C.</a:t>
            </a:r>
            <a:br>
              <a:rPr sz="2700"/>
            </a:br>
            <a:r>
              <a:rPr b="0" lang="tr-TR" sz="2700" spc="-1" strike="noStrike">
                <a:solidFill>
                  <a:srgbClr val="ffffff"/>
                </a:solidFill>
                <a:latin typeface="Tahoma"/>
              </a:rPr>
              <a:t>KOCAELİ ÜNİVERSİTESİ</a:t>
            </a:r>
            <a:br>
              <a:rPr sz="2700"/>
            </a:br>
            <a:r>
              <a:rPr b="0" lang="tr-TR" sz="2700" spc="-1" strike="noStrike">
                <a:solidFill>
                  <a:srgbClr val="ffffff"/>
                </a:solidFill>
                <a:latin typeface="Tahoma"/>
              </a:rPr>
              <a:t>SOSYAL BİLİMLER ENSTİTÜSÜ</a:t>
            </a:r>
            <a:br>
              <a:rPr sz="2700"/>
            </a:br>
            <a:br>
              <a:rPr sz="2700"/>
            </a:br>
            <a:r>
              <a:rPr b="1" lang="tr-TR" sz="2700" spc="-1" strike="noStrike">
                <a:solidFill>
                  <a:srgbClr val="ffffff"/>
                </a:solidFill>
                <a:latin typeface="Tahoma"/>
              </a:rPr>
              <a:t>İLKOĞRETİM OKULLARINDA OLUSTURULAN OKUL</a:t>
            </a:r>
            <a:br>
              <a:rPr sz="2700"/>
            </a:br>
            <a:r>
              <a:rPr b="1" lang="tr-TR" sz="2700" spc="-1" strike="noStrike">
                <a:solidFill>
                  <a:srgbClr val="ffffff"/>
                </a:solidFill>
                <a:latin typeface="Tahoma"/>
              </a:rPr>
              <a:t>KULTURU İLE OKULLARIN ETKiLİLİĞİ ARASINDAKİ İLİSKİ</a:t>
            </a:r>
            <a:br>
              <a:rPr sz="2700"/>
            </a:br>
            <a:r>
              <a:rPr b="1" lang="tr-TR" sz="2700" spc="-1" strike="noStrike">
                <a:solidFill>
                  <a:srgbClr val="ffffff"/>
                </a:solidFill>
                <a:latin typeface="Tahoma"/>
              </a:rPr>
              <a:t>(Erzurum İli Orneği)</a:t>
            </a:r>
            <a:br>
              <a:rPr sz="2700"/>
            </a:br>
            <a:br>
              <a:rPr sz="2700"/>
            </a:br>
            <a:r>
              <a:rPr b="1" lang="tr-TR" sz="2700" spc="-1" strike="noStrike">
                <a:solidFill>
                  <a:srgbClr val="ffffff"/>
                </a:solidFill>
                <a:latin typeface="Tahoma"/>
              </a:rPr>
              <a:t>DOKTORA TEZİ</a:t>
            </a:r>
            <a:br>
              <a:rPr sz="2700"/>
            </a:br>
            <a:r>
              <a:rPr b="1" lang="tr-TR" sz="2700" spc="-1" strike="noStrike">
                <a:solidFill>
                  <a:srgbClr val="ffffff"/>
                </a:solidFill>
                <a:latin typeface="Tahoma"/>
              </a:rPr>
              <a:t> AHMET AYIK</a:t>
            </a:r>
            <a:br>
              <a:rPr sz="2700"/>
            </a:br>
            <a:br>
              <a:rPr sz="2700"/>
            </a:br>
            <a:r>
              <a:rPr b="1" lang="tr-TR" sz="2700" spc="-1" strike="noStrike">
                <a:solidFill>
                  <a:srgbClr val="ffffff"/>
                </a:solidFill>
                <a:latin typeface="Tahoma"/>
              </a:rPr>
              <a:t>TEZ YONETİCİSİ</a:t>
            </a:r>
            <a:br>
              <a:rPr sz="2700"/>
            </a:br>
            <a:r>
              <a:rPr b="1" lang="tr-TR" sz="2700" spc="-1" strike="noStrike">
                <a:solidFill>
                  <a:srgbClr val="ffffff"/>
                </a:solidFill>
                <a:latin typeface="Tahoma"/>
              </a:rPr>
              <a:t>Y. Doc. Dr. Mehmet KOK</a:t>
            </a:r>
            <a:br>
              <a:rPr sz="2700"/>
            </a:br>
            <a:r>
              <a:rPr b="1" lang="tr-TR" sz="2700" spc="-1" strike="noStrike">
                <a:solidFill>
                  <a:srgbClr val="ffffff"/>
                </a:solidFill>
                <a:latin typeface="Tahoma"/>
              </a:rPr>
              <a:t>ERZURUM 2007</a:t>
            </a:r>
            <a:br>
              <a:rPr sz="2700"/>
            </a:br>
            <a:br>
              <a:rPr sz="1800"/>
            </a:br>
            <a:endParaRPr b="0" lang="en-US" sz="2700" spc="-1" strike="noStrike">
              <a:solidFill>
                <a:srgbClr val="ffffff"/>
              </a:solidFill>
              <a:latin typeface="Tahoma"/>
            </a:endParaRPr>
          </a:p>
        </p:txBody>
      </p:sp>
      <p:sp>
        <p:nvSpPr>
          <p:cNvPr id="84" name=""/>
          <p:cNvSpPr/>
          <p:nvPr/>
        </p:nvSpPr>
        <p:spPr>
          <a:xfrm>
            <a:off x="140328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85" name=""/>
          <p:cNvSpPr/>
          <p:nvPr/>
        </p:nvSpPr>
        <p:spPr>
          <a:xfrm>
            <a:off x="4539600" y="0"/>
            <a:ext cx="6480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86" name=""/>
          <p:cNvSpPr/>
          <p:nvPr/>
        </p:nvSpPr>
        <p:spPr>
          <a:xfrm>
            <a:off x="-360" y="0"/>
            <a:ext cx="29520" cy="122040"/>
          </a:xfrm>
          <a:prstGeom prst="rect">
            <a:avLst/>
          </a:prstGeom>
          <a:noFill/>
          <a:ln w="0">
            <a:noFill/>
          </a:ln>
        </p:spPr>
        <p:style>
          <a:lnRef idx="0"/>
          <a:fillRef idx="0"/>
          <a:effectRef idx="0"/>
          <a:fontRef idx="minor"/>
        </p:style>
        <p:txBody>
          <a:bodyPr wrap="none"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SAYIM (SAYILTI)</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1. Bu arastırmada kullanılacak olan olceğin olcmek istenilen niteliği saptadığı varsayılmıstı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2. Bu arastırmada secilen orneklemin evreni temsil ettiği varsayılmıstı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3. Arastırmaya katılan okul yoneticisi ve oğretmenlerin, anket formlarını yanıtlarken goruslerini objektif olarak yansıtmıs oldukları kabul edilmist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Orgut Kulturu: Bir orgutte yasama gecirilmis bilincli ya da bilincsiz ya da yarı bilincli, sekilde uygulanan bir dizi sayıtlı, inanc ve değerler butunudur. (Balcı,2001: 177).</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Okul Kulturu: Okul orgutunde ortak olarak bulunan ve personelin davranıslarını yonlendiren değerler, normlar, semboller, sayıtlılar, uygulamalar ve geleneklerdir (Yıldırım, 2001: 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Orgutsel Etkililik: Orgutun amaclarını gerceklestirme duzeyi (Hoy ve Miskel,1987; Karslı, 2004: 15)</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Etkili Okul: Lezotte’ye (1991) gore etkili okul, okula devam eden butun oğrencilerin verilen programlardan en iyi sekilde yararlanması, baska bir deyisle hazırlanan programın arzu edilen hedefe ulasmasıdır (Akt. Simsek, 2002: 2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ÖNTEM</a:t>
            </a:r>
            <a:br>
              <a:rPr sz="4000"/>
            </a:br>
            <a:endParaRPr b="0" lang="en-US" sz="40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u bolumde arastırmada izlenen yontem: ”arastırma modeli” ”arastırma evreni”</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t>
            </a:r>
            <a:r>
              <a:rPr b="0" lang="tr-TR" sz="2800" spc="-1" strike="noStrike">
                <a:solidFill>
                  <a:srgbClr val="ffffff"/>
                </a:solidFill>
                <a:latin typeface="Tahoma"/>
              </a:rPr>
              <a:t>orneklem” ”veri toplama aracının Turkceye uyarlanması” ”veri toplama aracını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ecerlik ve guvenirlik calısmasının yapılması ve uygulanması” ”verileri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cozumlenmesi” ve “veri toplama aracının uygulanması” alt baslıkları altınd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cıklanmıst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AŞTIRMA</a:t>
            </a:r>
            <a:r>
              <a:rPr b="0" lang="en-US" sz="4400" spc="-1" strike="noStrike">
                <a:solidFill>
                  <a:srgbClr val="ffffff"/>
                </a:solidFill>
                <a:latin typeface="Tahoma"/>
              </a:rPr>
              <a:t> </a:t>
            </a:r>
            <a:r>
              <a:rPr b="1" lang="en-US" sz="4400" spc="-1" strike="noStrike">
                <a:solidFill>
                  <a:srgbClr val="ffffff"/>
                </a:solidFill>
                <a:latin typeface="Tahoma"/>
              </a:rPr>
              <a:t>MODELİ</a:t>
            </a:r>
            <a:endParaRPr b="0" lang="en-US" sz="4400" spc="-1" strike="noStrike">
              <a:solidFill>
                <a:srgbClr val="ffffff"/>
              </a:solidFill>
              <a:latin typeface="Tahoma"/>
            </a:endParaRPr>
          </a:p>
        </p:txBody>
      </p:sp>
      <p:sp>
        <p:nvSpPr>
          <p:cNvPr id="112" name="PlaceHolder 2"/>
          <p:cNvSpPr>
            <a:spLocks noGrp="1"/>
          </p:cNvSpPr>
          <p:nvPr>
            <p:ph/>
          </p:nvPr>
        </p:nvSpPr>
        <p:spPr>
          <a:xfrm>
            <a:off x="468360" y="2565360"/>
            <a:ext cx="8229600" cy="2260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rastırma, korelasyon turu iliskisel tarama modelindedir. Tarama modelleri</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ecmiste ya da halen var olan bir durumu var olduğu sekliyle betimlemeyi amaclaya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rastırma yaklasımlarıd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VREN VE</a:t>
            </a:r>
            <a:r>
              <a:rPr b="0" lang="en-US" sz="4400" spc="-1" strike="noStrike">
                <a:solidFill>
                  <a:srgbClr val="ffffff"/>
                </a:solidFill>
                <a:latin typeface="Tahoma"/>
              </a:rPr>
              <a:t> </a:t>
            </a:r>
            <a:r>
              <a:rPr b="1" lang="en-US" sz="4400" spc="-1" strike="noStrike">
                <a:solidFill>
                  <a:srgbClr val="ffffff"/>
                </a:solidFill>
                <a:latin typeface="Tahoma"/>
              </a:rPr>
              <a:t>ÖRNEKLEM</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Arastırmanın evrenini, 2007-2008 eğitim-oğretim yılı guz doneminde Erzurum il merkezindeki 8 eğitim bolgesinde bulunan 72 devlet ilkoğretim okulunda gorev yapan 1911 yonetici ve oğretmen olusturmaktadır. Bu arastırmada “basit tesadufi ornekleme” yontemi kullanılmıst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ERİLERİN TOPLANMASI</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
          <p:cNvSpPr/>
          <p:nvPr/>
        </p:nvSpPr>
        <p:spPr>
          <a:xfrm>
            <a:off x="250920" y="1009800"/>
            <a:ext cx="889308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Tahoma"/>
              </a:rPr>
              <a:t>Bu arastırmada, oğretmen ve yonetici goruslerine gore ilkoğretim okullarında olusturulan okul kulturunu belirlemek icin veri toplama aracı olarak, Steve Gruenert ve Jerry Valentine (1998) tarafından gelistirilmis olan “okul kulturu envanteri” Jerry Valentine’ den izin alınıp Turkce’ye uyarlanarak kullanılmıstır.Steve Gruenert ve Jerry Valentine’e gore okul kulturu olceği okuldaki davranısların ozellikleri ve iliskileri, paylasılan değerler ve inanclar hakkında ongoru sağlar.</a:t>
            </a:r>
            <a:r>
              <a:rPr b="0" lang="tr-TR" sz="2700" spc="-1" strike="noStrike">
                <a:solidFill>
                  <a:srgbClr val="ffffff"/>
                </a:solidFill>
                <a:latin typeface="Tahoma"/>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ERİLERİN TOPLANMASI</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8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Tahoma"/>
              </a:rPr>
              <a:t>Olcekte bulunan her bir faktor okulun ortak kulturunun bir yonunu olcer. Okul kulturu olceği: isbirliğine dayalı liderlik, oğretmen isbirliği, mesleki gelisme, ortak amaclar, meslektas desteği ve birlikte oğrenme boyutları ile 35 sorudan</a:t>
            </a:r>
            <a:endParaRPr b="0" lang="en-US" sz="3300" spc="-1" strike="noStrike">
              <a:solidFill>
                <a:srgbClr val="ffffff"/>
              </a:solidFill>
              <a:latin typeface="Tahoma"/>
            </a:endParaRPr>
          </a:p>
          <a:p>
            <a:pPr marL="3326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Tahoma"/>
              </a:rPr>
              <a:t>  </a:t>
            </a:r>
            <a:r>
              <a:rPr b="0" lang="tr-TR" sz="3300" spc="-1" strike="noStrike">
                <a:solidFill>
                  <a:srgbClr val="ffffff"/>
                </a:solidFill>
                <a:latin typeface="Tahoma"/>
              </a:rPr>
              <a:t>olusmaktadır.</a:t>
            </a:r>
            <a:endParaRPr b="0" lang="en-US" sz="3300" spc="-1" strike="noStrike">
              <a:solidFill>
                <a:srgbClr val="ffffff"/>
              </a:solidFill>
              <a:latin typeface="Tahoma"/>
            </a:endParaRPr>
          </a:p>
          <a:p>
            <a:pPr marL="33264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VERİLERİN ÇÖZÜMÜ VE YORUMLANMASI</a:t>
            </a:r>
            <a:endParaRPr b="0" lang="en-US" sz="4000" spc="-1" strike="noStrike">
              <a:solidFill>
                <a:srgbClr val="ffffff"/>
              </a:solidFill>
              <a:latin typeface="Tahoma"/>
            </a:endParaRPr>
          </a:p>
        </p:txBody>
      </p:sp>
      <p:sp>
        <p:nvSpPr>
          <p:cNvPr id="121" name="PlaceHolder 2"/>
          <p:cNvSpPr>
            <a:spLocks noGrp="1"/>
          </p:cNvSpPr>
          <p:nvPr>
            <p:ph/>
          </p:nvPr>
        </p:nvSpPr>
        <p:spPr>
          <a:xfrm>
            <a:off x="468360" y="1773360"/>
            <a:ext cx="8229600" cy="48225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Çözumlemede basit doğrusal korelasyon tekniklerinden sosyal bilimlerde sıklıkla kullanılan Pearson Momentler Carpımı Korelasyon Katsayısı Tekniği kullanılmıstır (Buyukozturk, 2002: 31).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rastırmada kullanılan istatistiksel cozumlemelerde anlamlılık duzeyi t testi icin 0.05, Pearson Momentler Carpımı Korelasyon Katsayısı icin .01 olarak kabul edilmistir.</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rastırma verilerinin istatistiksel cozumlemeleri “Microsoft Office paket programının Microsoft Excel 2002 ve SPSS 11.0 for Windows” programları kullanılarak gerceklestirilmist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Tahoma"/>
                <a:hlinkClick r:id="rId2"/>
              </a:rPr>
              <a:t>C:\</a:t>
            </a:r>
            <a:r>
              <a:rPr b="0" lang="tr-TR" sz="3200" spc="-1" strike="noStrike" u="sng">
                <a:solidFill>
                  <a:srgbClr val="ffcc00"/>
                </a:solidFill>
                <a:uFillTx/>
                <a:latin typeface="Tahoma"/>
                <a:hlinkClick r:id="rId3"/>
              </a:rPr>
              <a:t>Users</a:t>
            </a:r>
            <a:r>
              <a:rPr b="0" lang="tr-TR" sz="3200" spc="-1" strike="noStrike" u="sng">
                <a:solidFill>
                  <a:srgbClr val="ffcc00"/>
                </a:solidFill>
                <a:uFillTx/>
                <a:latin typeface="Tahoma"/>
                <a:hlinkClick r:id="rId4"/>
              </a:rPr>
              <a:t>\Casper\</a:t>
            </a:r>
            <a:r>
              <a:rPr b="0" lang="tr-TR" sz="3200" spc="-1" strike="noStrike" u="sng">
                <a:solidFill>
                  <a:srgbClr val="ffcc00"/>
                </a:solidFill>
                <a:uFillTx/>
                <a:latin typeface="Tahoma"/>
                <a:hlinkClick r:id="rId5"/>
              </a:rPr>
              <a:t>Desktop</a:t>
            </a:r>
            <a:r>
              <a:rPr b="0" lang="tr-TR" sz="3200" spc="-1" strike="noStrike" u="sng">
                <a:solidFill>
                  <a:srgbClr val="ffcc00"/>
                </a:solidFill>
                <a:uFillTx/>
                <a:latin typeface="Tahoma"/>
                <a:hlinkClick r:id="rId6"/>
              </a:rPr>
              <a:t>\Adsız.</a:t>
            </a:r>
            <a:r>
              <a:rPr b="0" lang="tr-TR" sz="3200" spc="-1" strike="noStrike" u="sng">
                <a:solidFill>
                  <a:srgbClr val="ffcc00"/>
                </a:solidFill>
                <a:uFillTx/>
                <a:latin typeface="Tahoma"/>
                <a:hlinkClick r:id="rId7"/>
              </a:rPr>
              <a:t>jpg</a:t>
            </a:r>
            <a:endParaRPr b="0" lang="en-US" sz="3200" spc="-1" strike="noStrike">
              <a:solidFill>
                <a:srgbClr val="ffffff"/>
              </a:solidFill>
              <a:latin typeface="Tahoma"/>
            </a:endParaRPr>
          </a:p>
        </p:txBody>
      </p:sp>
      <p:pic>
        <p:nvPicPr>
          <p:cNvPr id="124" name="" descr=""/>
          <p:cNvPicPr/>
          <p:nvPr/>
        </p:nvPicPr>
        <p:blipFill>
          <a:blip r:embed="rId8"/>
          <a:stretch/>
        </p:blipFill>
        <p:spPr>
          <a:xfrm>
            <a:off x="0" y="1268280"/>
            <a:ext cx="9144000" cy="60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212256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lkoğretim okullarında olusturulan okul kulturu ile okulların etkililik duzeyleri arasında iliski var mıdı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BLE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pic>
        <p:nvPicPr>
          <p:cNvPr id="127" name="" descr=""/>
          <p:cNvPicPr/>
          <p:nvPr/>
        </p:nvPicPr>
        <p:blipFill>
          <a:blip r:embed="rId2"/>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ahoma"/>
            </a:endParaRPr>
          </a:p>
        </p:txBody>
      </p:sp>
      <p:pic>
        <p:nvPicPr>
          <p:cNvPr id="130" name="" descr=""/>
          <p:cNvPicPr/>
          <p:nvPr/>
        </p:nvPicPr>
        <p:blipFill>
          <a:blip r:embed="rId2"/>
          <a:stretch/>
        </p:blipFill>
        <p:spPr>
          <a:xfrm>
            <a:off x="0" y="1413000"/>
            <a:ext cx="9144000" cy="579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ffffff"/>
              </a:solidFill>
              <a:uFillTx/>
              <a:latin typeface="Tahoma"/>
            </a:endParaRPr>
          </a:p>
        </p:txBody>
      </p:sp>
      <p:pic>
        <p:nvPicPr>
          <p:cNvPr id="133" name="" descr=""/>
          <p:cNvPicPr/>
          <p:nvPr/>
        </p:nvPicPr>
        <p:blipFill>
          <a:blip r:embed="rId2"/>
          <a:stretch/>
        </p:blipFill>
        <p:spPr>
          <a:xfrm>
            <a:off x="0" y="135252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600"/>
            <a:ext cx="8229600" cy="2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ÖNERİLER</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pic>
        <p:nvPicPr>
          <p:cNvPr id="136" name="" descr=""/>
          <p:cNvPicPr/>
          <p:nvPr/>
        </p:nvPicPr>
        <p:blipFill>
          <a:blip r:embed="rId2"/>
          <a:stretch/>
        </p:blipFill>
        <p:spPr>
          <a:xfrm>
            <a:off x="0" y="69228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1- Okul kulturu ile etkili okul arasındaki iliskiye yonelik arastırma kapsamına veli ve oğrenciler de dahil edilerek daha genis perspektif kazandırılabilir.</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2- Benzer arastırmalar ozel ilkoğretim ve ortaoğretim kurumları ile devlet orta oğretim kurumlarında da arastırmalar yapılabilir.</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3- Benzer konular nitel arastırma yontemleriyle ele alınıp farklı bakıs acıları kazandırılabilir.</a:t>
            </a:r>
            <a:endParaRPr b="0" lang="en-US" sz="2800" spc="-1" strike="noStrike">
              <a:solidFill>
                <a:srgbClr val="ffffff"/>
              </a:solidFill>
              <a:latin typeface="Tahoma"/>
            </a:endParaRPr>
          </a:p>
        </p:txBody>
      </p:sp>
      <p:pic>
        <p:nvPicPr>
          <p:cNvPr id="139" name="" descr=""/>
          <p:cNvPicPr/>
          <p:nvPr/>
        </p:nvPicPr>
        <p:blipFill>
          <a:blip r:embed="rId2"/>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ZET</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pic>
        <p:nvPicPr>
          <p:cNvPr id="14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AMAÇ</a:t>
            </a:r>
            <a:endParaRPr b="0" lang="en-US" sz="4400" spc="-1" strike="noStrike">
              <a:solidFill>
                <a:srgbClr val="ffffff"/>
              </a:solidFill>
              <a:latin typeface="Tahoma"/>
            </a:endParaRPr>
          </a:p>
        </p:txBody>
      </p:sp>
      <p:sp>
        <p:nvSpPr>
          <p:cNvPr id="9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Gorev yaptıkları okullar bağlamında yonetici ve oğretmen goruslerine gor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1.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a. İlkoğretim okullarında gorev yapan oğretmen ve yoneticiler okullarındaki kulturu ne duzeyde algılamaktadırla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b. İlkoğretim okullarında gorev yapan oğretmen ve yoneticiler okullarının etkililik durumunu ne duzeyde algılamaktadırl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AMAÇ</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2.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a. İlkoğretim okullarında gorev yapan oğretmen ve yoneticilerin oku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kulturunu algılama duzeyler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1. Cinsiye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2. Eğitim duzey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3. Gorev turu (yonetici, oğretme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4. Mesleki kıdem,</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5. Okuldaki gorev sures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6. Oğretmenlik branslarına gore (sınıf oğretmeni, Turkce, sosyal bilimler,matematik ve fen bilimleri, yabancı diller, guzel sanatlar, diğer branslar) farklılık gostermekte midi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AMAÇ</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b. İlkoğretim okullarında gorev yapan oğretmen ve yoneticilerin okullarının etkililik duzeyini algılamaları;</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1. Cinsiyet,</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2. Eğitim duzeyi,</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3. Gorev turu (yonetici, oğretmen)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4. Mesleki kıdem,</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5. Okuldaki gorev suresi,</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6. Oğretmenlik branslarına gore (sınıf oğretmeni, Turkce, sosyal bilimler,matematik ve fen bilimleri, yabancı diller, guzel sanatlar, diğer branslar) farklılık gostermekte mid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AMAÇ</a:t>
            </a:r>
            <a:endParaRPr b="0" lang="en-US" sz="4400" spc="-1" strike="noStrike">
              <a:solidFill>
                <a:srgbClr val="ffffff"/>
              </a:solidFill>
              <a:latin typeface="Tahoma"/>
            </a:endParaRPr>
          </a:p>
        </p:txBody>
      </p:sp>
      <p:sp>
        <p:nvSpPr>
          <p:cNvPr id="96" name="PlaceHolder 2"/>
          <p:cNvSpPr>
            <a:spLocks noGrp="1"/>
          </p:cNvSpPr>
          <p:nvPr>
            <p:ph/>
          </p:nvPr>
        </p:nvSpPr>
        <p:spPr>
          <a:xfrm>
            <a:off x="324000" y="2565000"/>
            <a:ext cx="8229600" cy="190044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3. İlkoğretim okullarında gorev yapan oğretmen ve yoneticilerin okul kulturunu algılama duzeyleri ile okullarının etkililik duzeylerini algılamaları arasında iliski var mıd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M</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	</a:t>
            </a:r>
            <a:r>
              <a:rPr b="0" lang="tr-TR" sz="2400" spc="-1" strike="noStrike">
                <a:solidFill>
                  <a:srgbClr val="ffffff"/>
                </a:solidFill>
                <a:latin typeface="Tahoma"/>
              </a:rPr>
              <a:t>Okul kulturu, okul personelinin davranıslarını yonlendiren normlar, davranıslar,değerler, inanclar ve alıskanlıklar sistemi olarak ifade edilmektedir. Etkili okul ise,oğrencilerin bilissel, duyussal, psikomotor, sosyal ve estetik gelisimlerinin en uygun bicimde desteklendiği, optimum bir oğrenme cevresinin olusturulduğu okul olarak tanımlanmaktadı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Guclu okul kulturunun, okul uyelerinin moral, motivasyon, verimlilik ve sonucta okulun etkililiğine olumlu katkıları soz konusu olabilir.</a:t>
            </a:r>
            <a:r>
              <a:rPr b="0" i="1" lang="tr-TR" sz="2400" spc="-1" strike="noStrike">
                <a:solidFill>
                  <a:srgbClr val="ffffff"/>
                </a:solidFill>
                <a:latin typeface="Tahoma"/>
              </a:rPr>
              <a:t>	</a:t>
            </a:r>
            <a:r>
              <a:rPr b="0" i="1" lang="tr-T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ÖNEM</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u arastırma, Erzurum il merkezinde bulunan ilkoğretim okullarınd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olusturulan okul kulturu ile okulların etkililik duzeyine yonelik yonetici ve oğretme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algı duzeylerini ortaya koyarak, okul kulturu ile etkililik arasındaki iliskinin tespi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dilmesi acısından onemlidir. Arastırmanın ilkoğretim okullarında gorev yapan yonetic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ve oğretmenlerin okul kulturunun olusturulması, gelistirilmesi ve okullarının etkililiğin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katkısı konusunda yardımcı olacağı dusunulmekted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INIRLILIKLAR</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1. Arastırma, 2007-2008 eğitim oğretim yılı Erzurum il merkezindeki devl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ilkoğretim okullarında gorevli yonetici ve oğretmen gorusleri ile sınırlıdır. Ko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ilkoğretim okulları ve ozel ilkoğretim okulları kapsam dısı bırakılmıstır.</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2. Arastırmada elde edilen veriler, arastırmada kullanılan veri toplama aracı ile</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sınırlıdır.</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3. Yonetici ve oğretmen gorusleri, okul kulturunun “isbirliğine dayalı liderlik”,</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a:t>
            </a:r>
            <a:r>
              <a:rPr b="0" i="1" lang="tr-TR" sz="1600" spc="-1" strike="noStrike">
                <a:solidFill>
                  <a:srgbClr val="ffffff"/>
                </a:solidFill>
                <a:latin typeface="Tahoma"/>
              </a:rPr>
              <a:t>oğretmen isbirliği”, “mesleki gelisme”, “ortak amaclar”, “meslektas desteği”, “birlikte</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oğrenme” boyutları ile sınırlı tutulmustur.</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4. Yonetici ve oğretmen gorusleri, etkili okulun “okul yoneticisi”, “oğretm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a:t>
            </a:r>
            <a:r>
              <a:rPr b="0" i="1" lang="tr-TR" sz="1600" spc="-1" strike="noStrike">
                <a:solidFill>
                  <a:srgbClr val="ffffff"/>
                </a:solidFill>
                <a:latin typeface="Tahoma"/>
              </a:rPr>
              <a:t>oğrenci”, “okul ortamı ve eğitim oğretim sureci”, ile “veli” boyutları ile sınırlı</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tutulmustu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12:06:48Z</dcterms:created>
  <dc:creator>levent</dc:creator>
  <dc:description/>
  <dc:language>en-US</dc:language>
  <cp:lastModifiedBy>Casper</cp:lastModifiedBy>
  <dcterms:modified xsi:type="dcterms:W3CDTF">2010-12-26T21:16:25Z</dcterms:modified>
  <cp:revision>29</cp:revision>
  <dc:subject/>
  <dc:title>Slayt 1</dc:title>
</cp:coreProperties>
</file>